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11.png" ContentType="image/png"/>
  <Override PartName="/ppt/media/image7.jpeg" ContentType="image/jpeg"/>
  <Override PartName="/ppt/media/image20.png" ContentType="image/png"/>
  <Override PartName="/ppt/media/image13.png" ContentType="image/png"/>
  <Override PartName="/ppt/media/image6.jpeg" ContentType="image/jpeg"/>
  <Override PartName="/ppt/media/image10.png" ContentType="image/png"/>
  <Override PartName="/ppt/media/image5.jpeg" ContentType="image/jpeg"/>
  <Override PartName="/ppt/media/image21.png" ContentType="image/pn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EBF6A-C272-49D3-B1A9-EB9243DE4D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F1017-D957-4072-9D39-95BA2BD9C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E3D9FA6-ACAD-4AA8-A346-7EACC8B7B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B49F222-F17A-4851-A7A9-838F3AE6F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6A1F3F5-F504-4B1F-B8AE-B7B6C6464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91EF38B-337C-4862-954D-37CB2613D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49E22DB-D3BA-45CC-9B05-DF8F7B192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5767415-92CC-461E-88DE-A8C923995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D168934-7ACF-434D-934A-552236C1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44ADDC7-5242-4C9D-AC2F-4BD1D6F8A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958C9AE-AA98-457F-9CF8-886218CE8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D1E5804-E338-47F4-A268-2FBB3FE65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32CB2D-6905-45A2-B4C2-D937B2F9A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CC0A22B-76A9-4F63-B083-66ACF2E55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32C5EF6-9D5E-43A9-8914-3ACAEAA6F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569056-FB60-4C56-B2E0-0A26B7ED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ED8AFE5-FE3C-4519-BF81-771A4EA25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9EADC92-9F15-4C69-A2F6-3ED8D7EAE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ADBA5CC-FD29-4159-9EE9-2B3CAC0F5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7C52656-03D9-4F85-955C-B937E187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6F8515D-BB7D-4BEB-AAD2-C82393412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37625CE-B11A-42C1-90B0-E3C663D39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6E37530-C551-4B2E-8CB7-DCCDD8F73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4ECDF3-0EBD-49B1-BB66-EFDCDA63268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86A645E-CA06-429C-96C0-B40169F8A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F84FBCD-D4C6-4328-8227-2A42CEAA1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B566E0E-7EEA-443D-95AD-294C733F1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960EA53-3FD6-4B95-9120-FEAD593AF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06D5BB4-C26A-461C-BCD2-6CAB9AF2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90FA0B-1DFF-4BDF-9D48-2F35F0741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B2DE7C4-4411-4D19-AD0A-C233043A7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646BF15-618E-4863-84CC-8D3B9461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FAB5638-6788-4367-9F7F-9E44B796D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059070-0894-4CF8-BBB9-94ED0AA2B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5CF1917-55BB-4DD9-97E5-BE1083F5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D0DA03-B6FA-4DC2-8820-3182841F0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CA3919E-7C64-4559-8761-83F7ADD5D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3DA0575-CD93-49CF-AAC2-94D0F5A12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38E9573-BE74-4EBC-9EBE-CFFBEB6B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178831F-8DBD-47C3-97DF-E83C45F18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FCC7331-EB8C-4892-9494-F809959D0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FAAFE72-8611-4409-91DA-1C35AEB1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28BD214-F966-4CD5-9600-99FDD920B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71BC04A-DAEF-4A20-9452-005905F2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A34605B-D8F2-4A7C-AB77-B5A293A6F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DE27F55-F626-4A32-8890-BF41D316A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A9A2979-D61E-4D21-B95F-22E209002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FD6136C-6FCF-4CB2-9179-C813E7CEF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3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4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AB457D7-074D-47CF-BC81-1838D3847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7909C0-8375-4694-BA28-D5265FB8A9F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391174B-5CCB-4FE5-8C3F-B5D16B884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D4554C-1FF6-4FC1-BD78-5E0AA48D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A9312C6-2FC0-4CC0-8077-9E93C027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04E45F1-4866-4851-93A8-A6C67FB19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888E91C-BF00-43D0-8E3C-7EBEDDC8B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F5EE77C-1806-4E77-874B-47D0972FE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7E67C21-DBC5-4BAC-9FA9-B2D134BC4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0A7C886-C93A-4E30-9A20-97C4D88A8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D14406-3CB7-4533-A85A-1FC1F3CB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5F3E01-F5D2-4336-A9F3-69306CF30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6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C7855E2-34C6-4AFF-9465-7BE4ABF68C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236F17-E449-4ADF-92A0-5A1D9255A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CD8029-4ACA-4139-A8A0-8216A178C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8D6501-F886-4BAE-84C1-BE54A155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ABE3DB-96C1-49D3-B6A1-3BB476157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FC44DC-0CB4-4329-AE71-614C6EA1B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B96BEB-98FD-4BA1-9F81-9B961F2DA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68D51-DE46-451F-B23A-29AFEEA0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BDF512-A554-4B89-A92C-405C91E7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DE67A8-4590-4D60-9942-FA7A76F3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44DD0F-576D-4560-938E-A259CA5FB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CB362A-14BD-4511-BC44-E5DB7A6D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47F8B1-A6FA-43E4-A1CB-04DDDB5F8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9030EA-C792-4D57-96BB-4F48E9008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734368-52FF-4995-BB48-2CB4C8E31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A18A915-0F95-4EFF-AC8F-20ACC30D5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CE1DBDE-8E7E-4A76-AD4A-8ACFA9EBD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5FF0B7-35D9-438E-878A-790744269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3B36DF-4021-4831-B846-93D5A23EB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4C8884-F2B3-4937-BDF5-D12F5058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5A0667-1F45-4C45-9AB1-8F45E88E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7B0D718-00A6-4836-A568-503DBA3B1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22AE9B-CEE3-4EA6-A9F0-086E1FCE6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66DC043-52B2-41B9-AA68-87AA2152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29FE9A3-6338-44AE-AC7B-184996CB1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190A82-9585-432D-AB16-5ED3C3365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075F5A8-C987-4764-BAFB-96AA6CBAA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9273955-4A35-4536-81C0-F2B41B8DE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4D5BE3D-ED2F-4DC1-A97C-F3E29A5482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3757A-A55A-40A1-AA1A-AD6F96D6C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22422D7-0410-4C1F-ACC6-7F2B8B0C7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D178C4C-C203-4C5D-9556-2127AB988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3E346C-F5A7-4C33-9002-E992FAF36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3538C2-6BB4-45A9-99B4-31B9816CA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1B69474-E793-4F9B-864F-ABCFA1DF9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B4CFC7-CFE2-48EA-95FA-1FE8BC31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7CA6C2-3BEC-445C-881C-132238D49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8BA7B49-0929-40F7-8652-9062A70C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A9F5ED-0186-42CD-81B7-610A1AB51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CAF5BBE-C554-4B55-9C2B-88C9079B5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B6DB8-B936-4663-B41E-AF4FAA12A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EAF4C4-5A8B-4D61-9113-FD572BD33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82B75B-9231-4DD2-A991-A86E98888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03A2ED3-6D00-4C4B-A1BD-06266B804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C091581-3643-4B8A-B375-EC8F0836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7BB6A25-7EFC-4217-9DE0-70ACD089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6CF843-FE90-401E-BD25-5F55AF411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A9290B-A0C8-4FB9-AE00-053F5FCD1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FE9858-94A7-4AAB-840D-D90A1BA60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6963B8-ED46-4405-97B7-F6B77ADA2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ED479A-C930-4C62-A674-A5DA3F021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08F85E-88F2-44C7-8F2F-6D3E7C6F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AA69ECF-6A2D-408F-B3B4-94883FFA0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C942E9-C9A2-4331-BA18-B698262BE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0498A0-4F04-42C1-9D84-F54A2DEE7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D0D6CE-C7DA-48C9-9B2A-318EC744A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1D4308-AB29-4D38-96F8-AA7F94406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998096-4B6D-4244-97C0-DBFF9419A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61A6B4-64D0-406E-B7D7-114FEA9C8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416CC3-C31F-4523-B59C-E46172998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7B303ED-C266-4260-AA2A-2696F4A53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7A3908-B467-485B-855E-6677FDA23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FAC87-0F94-428D-A7EF-59A52D22C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8A9B21-B70B-4430-ACE7-B0E7DA4EB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E9585E-819B-435B-9403-658FE484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8B55AC-7232-4779-9CFC-0F8D8720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D5ED2C-5A0B-4BD1-A3A7-B7C1EDE98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B9D1BC8-73DC-4248-9E31-47BD54694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B4DAB6-9D50-4818-94B7-69A770232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E1E5C42-C186-480D-96CE-F30C70FD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6C609C1-765A-4FE5-BA5F-D4AEB8F2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15D27E-4364-4073-B6FD-D4B260D8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5C25B74-150A-4510-8856-D22987A02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22FFB-920A-46FA-83AF-6817BBDA7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FD1F802-8C82-49C9-89E1-2BDE0445E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CED2092-A2F1-4DBA-9DEB-8004C603F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42C5E89-E399-4790-8036-969281B5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0FC6BC-615C-4AB9-B1D5-8B6F13EBE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694240-92A9-4E66-9FB5-E07F1218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146BB50-7BD6-4CD2-8ECB-62EBC94D5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BEA1CBF-B5C8-4B60-A91D-22969949A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5061A22-EA2B-4FE0-AD49-0391A3A21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0086B1A-38AE-4960-8A6C-6171761EB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DE05D71-5F82-4E5D-BB60-48418C990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A2515-D4D5-4B27-9E63-3F84FE6502E3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85603-6C99-425C-A0F8-D85477565142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24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82BF6-4C21-438E-A3E9-2E17E7E5F711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25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26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9E9B2-9565-4273-80D5-BDE4A086A4F5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27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552D-EF04-4A23-A921-053DE97F1398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28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29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69363-7F23-4FFC-AB0B-7DB3A2B02B8F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 type="dt" idx="30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D146C-8ACE-45CA-8E9E-97984A42ECC4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 type="ftr" idx="31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 type="sldNum" idx="32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AA43-E50F-45B5-BD19-F173D440653C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556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 type="dt" idx="33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BBEBA-7C6F-4B3A-ACC8-5BFF7102F698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 type="sldNum" idx="34"/>
          </p:nvPr>
        </p:nvSpPr>
        <p:spPr>
          <a:xfrm>
            <a:off x="3851280" y="6453000"/>
            <a:ext cx="1008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4710-6679-49BB-82B8-220DC6E1D9FB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43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45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47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48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49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0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1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2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3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4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5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6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7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8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59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0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1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2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3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4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5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6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7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8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9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0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1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2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3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4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5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6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8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9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0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1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2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3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4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5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6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3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C4B7-5131-40B2-8ADC-6A2D5ED8B064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4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5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FD33F-802C-49B8-9E29-EB26735BA359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6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A3D2A-661A-4FC1-A122-A668CA532AEA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7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8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79123-10B1-435A-9565-AA26C90D5A2D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9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C7983-BF79-48A7-9830-4CB19F2E2272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0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1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4FC18-A0F3-4E9D-BC58-564382B5F0BC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2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36D9D-B78A-4CFE-9CB5-35E918082797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13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14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D1818-DD80-4921-B560-4B2AA11E9249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15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F6577-C94B-4A4B-8D17-BD9780DB7F91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16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17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C8F84-DE0A-4733-8BC5-9C89A363F286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18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2D1AF-0671-4BEA-B25E-5A32AB60B8F0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19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0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CB73A-9A89-4818-9E42-5E775D18D8C1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3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AB11E-91EB-4858-938D-1F3D55D3106E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2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23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BE6A-93C2-4E81-879D-7C04F7519AD9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Rectangle 2"/>
          <p:cNvSpPr/>
          <p:nvPr/>
        </p:nvSpPr>
        <p:spPr>
          <a:xfrm>
            <a:off x="0" y="0"/>
            <a:ext cx="3059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598" name="Group 162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599" name="Picture 23" descr="dd"/>
            <p:cNvPicPr/>
            <p:nvPr/>
          </p:nvPicPr>
          <p:blipFill>
            <a:blip r:embed="rId1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601" name="Picture 161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02" name="Group 155"/>
          <p:cNvGrpSpPr/>
          <p:nvPr/>
        </p:nvGrpSpPr>
        <p:grpSpPr>
          <a:xfrm>
            <a:off x="257040" y="1201680"/>
            <a:ext cx="2482920" cy="2444760"/>
            <a:chOff x="257040" y="1201680"/>
            <a:chExt cx="2482920" cy="2444760"/>
          </a:xfrm>
        </p:grpSpPr>
        <p:sp>
          <p:nvSpPr>
            <p:cNvPr id="603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04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05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06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07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608" name="Oval 102"/>
          <p:cNvGrpSpPr/>
          <p:nvPr/>
        </p:nvGrpSpPr>
        <p:grpSpPr>
          <a:xfrm>
            <a:off x="438120" y="1359000"/>
            <a:ext cx="2158920" cy="2176200"/>
            <a:chOff x="438120" y="1359000"/>
            <a:chExt cx="2158920" cy="2176200"/>
          </a:xfrm>
        </p:grpSpPr>
        <p:pic>
          <p:nvPicPr>
            <p:cNvPr id="609" name="Oval 102" descr=""/>
            <p:cNvPicPr/>
            <p:nvPr/>
          </p:nvPicPr>
          <p:blipFill>
            <a:blip r:embed="rId3"/>
            <a:stretch/>
          </p:blipFill>
          <p:spPr>
            <a:xfrm>
              <a:off x="438120" y="1359000"/>
              <a:ext cx="2158920" cy="21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0" name=""/>
            <p:cNvSpPr/>
            <p:nvPr/>
          </p:nvSpPr>
          <p:spPr>
            <a:xfrm>
              <a:off x="752400" y="1679400"/>
              <a:ext cx="1530360" cy="15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611" name="Group 156"/>
          <p:cNvGrpSpPr/>
          <p:nvPr/>
        </p:nvGrpSpPr>
        <p:grpSpPr>
          <a:xfrm>
            <a:off x="171360" y="1201680"/>
            <a:ext cx="2643120" cy="2494080"/>
            <a:chOff x="171360" y="1201680"/>
            <a:chExt cx="2643120" cy="2494080"/>
          </a:xfrm>
        </p:grpSpPr>
        <p:sp>
          <p:nvSpPr>
            <p:cNvPr id="612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13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14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615" name="Group 146"/>
          <p:cNvGrpSpPr/>
          <p:nvPr/>
        </p:nvGrpSpPr>
        <p:grpSpPr>
          <a:xfrm>
            <a:off x="912960" y="620640"/>
            <a:ext cx="1284120" cy="1260720"/>
            <a:chOff x="912960" y="620640"/>
            <a:chExt cx="1284120" cy="1260720"/>
          </a:xfrm>
        </p:grpSpPr>
        <p:sp>
          <p:nvSpPr>
            <p:cNvPr id="616" name="Oval 147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17" name="Oval 148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18" name="Oval 149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19" name="Oval 150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20" name="Oval 151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21" name="Oval 152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22" name="Oval 153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23" name="Oval 154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624" name="Oval 118"/>
          <p:cNvSpPr/>
          <p:nvPr/>
        </p:nvSpPr>
        <p:spPr>
          <a:xfrm>
            <a:off x="1004760" y="706320"/>
            <a:ext cx="1111320" cy="11131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625" name="Group 145"/>
          <p:cNvGrpSpPr/>
          <p:nvPr/>
        </p:nvGrpSpPr>
        <p:grpSpPr>
          <a:xfrm>
            <a:off x="863640" y="620640"/>
            <a:ext cx="1369800" cy="1284480"/>
            <a:chOff x="863640" y="620640"/>
            <a:chExt cx="1369800" cy="1284480"/>
          </a:xfrm>
        </p:grpSpPr>
        <p:sp>
          <p:nvSpPr>
            <p:cNvPr id="626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27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28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629" name="Group 157"/>
          <p:cNvGrpSpPr/>
          <p:nvPr/>
        </p:nvGrpSpPr>
        <p:grpSpPr>
          <a:xfrm>
            <a:off x="331920" y="3090960"/>
            <a:ext cx="2074680" cy="2038320"/>
            <a:chOff x="331920" y="3090960"/>
            <a:chExt cx="2074680" cy="2038320"/>
          </a:xfrm>
        </p:grpSpPr>
        <p:sp>
          <p:nvSpPr>
            <p:cNvPr id="630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31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32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33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34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35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636" name="Oval 128"/>
          <p:cNvSpPr/>
          <p:nvPr/>
        </p:nvSpPr>
        <p:spPr>
          <a:xfrm>
            <a:off x="482760" y="3227400"/>
            <a:ext cx="1801800" cy="18144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637" name="Group 158"/>
          <p:cNvGrpSpPr/>
          <p:nvPr/>
        </p:nvGrpSpPr>
        <p:grpSpPr>
          <a:xfrm>
            <a:off x="257040" y="3090960"/>
            <a:ext cx="2211480" cy="2087640"/>
            <a:chOff x="257040" y="3090960"/>
            <a:chExt cx="2211480" cy="2087640"/>
          </a:xfrm>
        </p:grpSpPr>
        <p:sp>
          <p:nvSpPr>
            <p:cNvPr id="638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39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40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641" name="Group 159"/>
          <p:cNvGrpSpPr/>
          <p:nvPr/>
        </p:nvGrpSpPr>
        <p:grpSpPr>
          <a:xfrm>
            <a:off x="900000" y="4684680"/>
            <a:ext cx="1717920" cy="1692360"/>
            <a:chOff x="900000" y="4684680"/>
            <a:chExt cx="1717920" cy="1692360"/>
          </a:xfrm>
        </p:grpSpPr>
        <p:sp>
          <p:nvSpPr>
            <p:cNvPr id="642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43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44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45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46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47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648" name="Oval 138"/>
          <p:cNvGrpSpPr/>
          <p:nvPr/>
        </p:nvGrpSpPr>
        <p:grpSpPr>
          <a:xfrm>
            <a:off x="1011240" y="4791240"/>
            <a:ext cx="1512720" cy="1517400"/>
            <a:chOff x="1011240" y="4791240"/>
            <a:chExt cx="1512720" cy="1517400"/>
          </a:xfrm>
        </p:grpSpPr>
        <p:pic>
          <p:nvPicPr>
            <p:cNvPr id="649" name="Oval 138" descr=""/>
            <p:cNvPicPr/>
            <p:nvPr/>
          </p:nvPicPr>
          <p:blipFill>
            <a:blip r:embed="rId6"/>
            <a:stretch/>
          </p:blipFill>
          <p:spPr>
            <a:xfrm>
              <a:off x="1011240" y="4791240"/>
              <a:ext cx="1512720" cy="151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0" name=""/>
            <p:cNvSpPr/>
            <p:nvPr/>
          </p:nvSpPr>
          <p:spPr>
            <a:xfrm>
              <a:off x="1235160" y="5013360"/>
              <a:ext cx="1065240" cy="10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651" name="Group 160"/>
          <p:cNvGrpSpPr/>
          <p:nvPr/>
        </p:nvGrpSpPr>
        <p:grpSpPr>
          <a:xfrm>
            <a:off x="838080" y="4684680"/>
            <a:ext cx="1828800" cy="1728720"/>
            <a:chOff x="838080" y="4684680"/>
            <a:chExt cx="1828800" cy="1728720"/>
          </a:xfrm>
        </p:grpSpPr>
        <p:sp>
          <p:nvSpPr>
            <p:cNvPr id="652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53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654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257280" y="980640"/>
            <a:ext cx="5616360" cy="352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03896"/>
                </a:solidFill>
                <a:latin typeface="Arial"/>
              </a:rPr>
              <a:t>Enquiry Number - KZN028</a:t>
            </a:r>
            <a:br>
              <a:rPr sz="2800"/>
            </a:br>
            <a:r>
              <a:rPr b="1" lang="en-ZA" sz="2400" spc="-1" strike="noStrike">
                <a:solidFill>
                  <a:srgbClr val="003896"/>
                </a:solidFill>
                <a:latin typeface="Arial"/>
              </a:rPr>
              <a:t>The Manufacture, Test and Supply Ex-works of estimated quantities of POLE TOP BOXES on an ‘as and when’ required basis for a period of two (2) years for the Central East Cluster (KwaZulu Natal and Free State Operating Units).</a:t>
            </a:r>
            <a:br>
              <a:rPr sz="2400"/>
            </a:br>
            <a:r>
              <a:rPr b="1" lang="en-ZA" sz="1600" spc="-1" strike="noStrike">
                <a:solidFill>
                  <a:srgbClr val="003896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subTitle"/>
          </p:nvPr>
        </p:nvSpPr>
        <p:spPr>
          <a:xfrm>
            <a:off x="3058920" y="4696920"/>
            <a:ext cx="5545080" cy="161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725b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896"/>
                </a:solidFill>
                <a:latin typeface="Arial"/>
              </a:rPr>
              <a:t>Date:</a:t>
            </a:r>
            <a:r>
              <a:rPr b="1" lang="en-US" sz="2400" spc="-1" strike="noStrike">
                <a:solidFill>
                  <a:srgbClr val="00389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896"/>
                </a:solidFill>
                <a:latin typeface="Arial"/>
              </a:rPr>
              <a:t>21 July 2022 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89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896"/>
                </a:solidFill>
                <a:latin typeface="Arial"/>
              </a:rPr>
              <a:t>Venue: Online MS Teams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89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896"/>
                </a:solidFill>
                <a:latin typeface="Arial"/>
              </a:rPr>
              <a:t>Time: </a:t>
            </a:r>
            <a:r>
              <a:rPr b="1" lang="en-US" sz="2400" spc="-1" strike="noStrike">
                <a:solidFill>
                  <a:srgbClr val="003896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3896"/>
                </a:solidFill>
                <a:latin typeface="Arial"/>
              </a:rPr>
              <a:t>10:00am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NDER 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 txBox="1"/>
          <p:nvPr/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 u="sng">
                <a:solidFill>
                  <a:srgbClr val="003896"/>
                </a:solidFill>
                <a:uFillTx/>
                <a:latin typeface="Arial"/>
              </a:rPr>
              <a:t>Step 2: Functionality – Technical</a:t>
            </a:r>
            <a:endParaRPr b="0" lang="en-US" sz="28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50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896"/>
                </a:solidFill>
                <a:latin typeface="Arial"/>
              </a:rPr>
              <a:t>To be presented by Shalen Goonoa</a:t>
            </a:r>
            <a:endParaRPr b="0" lang="en-US" sz="28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50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2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18CF6-4642-4EE7-88D0-119FBCC3EE84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8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3" name="Slide Number Placeholder 4"/>
          <p:cNvSpPr/>
          <p:nvPr/>
        </p:nvSpPr>
        <p:spPr>
          <a:xfrm>
            <a:off x="3924360" y="6453360"/>
            <a:ext cx="9349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6D12B-C5F6-492D-BA87-E20C8F3E2149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ENDER EVALU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 txBox="1"/>
          <p:nvPr/>
        </p:nvSpPr>
        <p:spPr>
          <a:xfrm>
            <a:off x="436680" y="1268280"/>
            <a:ext cx="8378640" cy="52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 u="sng">
                <a:solidFill>
                  <a:srgbClr val="003896"/>
                </a:solidFill>
                <a:uFillTx/>
                <a:latin typeface="Arial"/>
              </a:rPr>
              <a:t>Step 3 – Contractual Requirements </a:t>
            </a:r>
            <a:endParaRPr b="0" lang="en-US" sz="28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3896"/>
                </a:solidFill>
                <a:latin typeface="Arial"/>
              </a:rPr>
              <a:t>Health and Safety Requirements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3896"/>
                </a:solidFill>
                <a:latin typeface="Arial"/>
              </a:rPr>
              <a:t>Quality Requirements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3896"/>
                </a:solidFill>
                <a:latin typeface="Arial"/>
              </a:rPr>
              <a:t>Environmental Requirements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3896"/>
                </a:solidFill>
                <a:latin typeface="Arial"/>
              </a:rPr>
              <a:t>Financial Evaluation</a:t>
            </a:r>
            <a:r>
              <a:rPr b="0" i="1" lang="en-ZA" sz="2400" spc="-1" strike="noStrike">
                <a:solidFill>
                  <a:srgbClr val="00389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3896"/>
                </a:solidFill>
                <a:latin typeface="Arial"/>
              </a:rPr>
              <a:t>Supplier Development, Localisation &amp; Industrialisation 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6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E47EF-3292-49E3-AD83-696CC9ADEAE1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8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7" name="Slide Number Placeholder 4"/>
          <p:cNvSpPr/>
          <p:nvPr/>
        </p:nvSpPr>
        <p:spPr>
          <a:xfrm>
            <a:off x="3924360" y="6453360"/>
            <a:ext cx="9349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89139-FBC5-4D4B-BC74-3A39919AB620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CE AND PREFERENCE SCOR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10BE7-ABD3-4718-B868-57DA7E0BB7A4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8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0" name="Slide Number Placeholder 4"/>
          <p:cNvSpPr/>
          <p:nvPr/>
        </p:nvSpPr>
        <p:spPr>
          <a:xfrm>
            <a:off x="3924360" y="6453360"/>
            <a:ext cx="9349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C1394-DA20-4A0F-8CBB-AA1BD216827B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324000" y="1407600"/>
            <a:ext cx="8378640" cy="504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 u="sng">
                <a:solidFill>
                  <a:srgbClr val="003896"/>
                </a:solidFill>
                <a:uFillTx/>
                <a:latin typeface="Arial"/>
              </a:rPr>
              <a:t>Stage 4 : Reverse e- auction</a:t>
            </a:r>
            <a:endParaRPr b="0" lang="en-US" sz="28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96"/>
                </a:solidFill>
                <a:latin typeface="Arial"/>
              </a:rPr>
              <a:t>Tenderers will be required to submit a complete tender but without prices. Where pricing is included in the tender; these prices will not be considered and will be disregarded.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96"/>
                </a:solidFill>
                <a:latin typeface="Arial"/>
              </a:rPr>
              <a:t>Conducted with shortlisted suppliers 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96"/>
                </a:solidFill>
                <a:latin typeface="Arial"/>
              </a:rPr>
              <a:t>Mandatory submission of Annexure J – pg 47 of the Invitation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nding of Tender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526680" y="1125000"/>
            <a:ext cx="7861320" cy="504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 algn="just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ender documents must be tamper proof to ensure that no pages may removed or added during the evaluation and handling process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e Tender document will be secure throughout the tender evaluation process.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4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24053-295A-4440-8D33-84B086D908FD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8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5" name="Slide Number Placeholder 4"/>
          <p:cNvSpPr/>
          <p:nvPr/>
        </p:nvSpPr>
        <p:spPr>
          <a:xfrm>
            <a:off x="3924360" y="6453360"/>
            <a:ext cx="9349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B0E3-D7E0-4BBE-8D3F-C30C907525BD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nding of Tender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20239-5EF3-4BDE-A8E5-70EDA65A3DB2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8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8" name="Slide Number Placeholder 4"/>
          <p:cNvSpPr/>
          <p:nvPr/>
        </p:nvSpPr>
        <p:spPr>
          <a:xfrm>
            <a:off x="3924360" y="6453360"/>
            <a:ext cx="9349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0991-AD51-40AF-A14D-AD14D9D74C0A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pic>
        <p:nvPicPr>
          <p:cNvPr id="709" name="Picture 3" descr=""/>
          <p:cNvPicPr/>
          <p:nvPr/>
        </p:nvPicPr>
        <p:blipFill>
          <a:blip r:embed="rId1"/>
          <a:srcRect l="20260" t="2566" r="0" b="20854"/>
          <a:stretch/>
        </p:blipFill>
        <p:spPr>
          <a:xfrm>
            <a:off x="3832200" y="1044720"/>
            <a:ext cx="3260880" cy="2428560"/>
          </a:xfrm>
          <a:prstGeom prst="rect">
            <a:avLst/>
          </a:prstGeom>
          <a:ln w="0">
            <a:noFill/>
          </a:ln>
        </p:spPr>
      </p:pic>
      <p:pic>
        <p:nvPicPr>
          <p:cNvPr id="710" name="Picture 3" descr=""/>
          <p:cNvPicPr/>
          <p:nvPr/>
        </p:nvPicPr>
        <p:blipFill>
          <a:blip r:embed="rId2"/>
          <a:srcRect l="15775" t="9409" r="8589" b="0"/>
          <a:stretch/>
        </p:blipFill>
        <p:spPr>
          <a:xfrm>
            <a:off x="4991040" y="2562120"/>
            <a:ext cx="2276640" cy="2044800"/>
          </a:xfrm>
          <a:prstGeom prst="rect">
            <a:avLst/>
          </a:prstGeom>
          <a:ln w="0">
            <a:noFill/>
          </a:ln>
        </p:spPr>
      </p:pic>
      <p:sp>
        <p:nvSpPr>
          <p:cNvPr id="711" name="Rounded Rectangular Callout 13"/>
          <p:cNvSpPr/>
          <p:nvPr/>
        </p:nvSpPr>
        <p:spPr>
          <a:xfrm>
            <a:off x="2565360" y="4149720"/>
            <a:ext cx="1995480" cy="2004840"/>
          </a:xfrm>
          <a:prstGeom prst="wedgeRoundRectCallout">
            <a:avLst>
              <a:gd name="adj1" fmla="val 94935"/>
              <a:gd name="adj2" fmla="val -66657"/>
              <a:gd name="adj3" fmla="val 16667"/>
            </a:avLst>
          </a:prstGeom>
          <a:solidFill>
            <a:srgbClr val="003896"/>
          </a:solidFill>
          <a:ln w="25560">
            <a:solidFill>
              <a:srgbClr val="0026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ages are not secure and they fall apart during the stamping and evaluation process.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pic>
        <p:nvPicPr>
          <p:cNvPr id="712" name="Picture 3" descr=""/>
          <p:cNvPicPr/>
          <p:nvPr/>
        </p:nvPicPr>
        <p:blipFill>
          <a:blip r:embed="rId3"/>
          <a:stretch/>
        </p:blipFill>
        <p:spPr>
          <a:xfrm>
            <a:off x="2879640" y="1197000"/>
            <a:ext cx="3959280" cy="3255840"/>
          </a:xfrm>
          <a:prstGeom prst="rect">
            <a:avLst/>
          </a:prstGeom>
          <a:ln w="0">
            <a:noFill/>
          </a:ln>
        </p:spPr>
      </p:pic>
      <p:sp>
        <p:nvSpPr>
          <p:cNvPr id="713" name="Rectangle 3"/>
          <p:cNvSpPr/>
          <p:nvPr/>
        </p:nvSpPr>
        <p:spPr>
          <a:xfrm>
            <a:off x="204840" y="1197000"/>
            <a:ext cx="34560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Ring binders should not be used: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Pages may be removed 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Pages tend to come loose from the binding during the stamping and evaluation process.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nding of Tender Documents…co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619EA-28A2-4D3C-849A-08925F452045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8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6" name="Slide Number Placeholder 4"/>
          <p:cNvSpPr/>
          <p:nvPr/>
        </p:nvSpPr>
        <p:spPr>
          <a:xfrm>
            <a:off x="3924360" y="6453360"/>
            <a:ext cx="9349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70920-CB7A-4B94-A7CD-6BDC3F925C73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pic>
        <p:nvPicPr>
          <p:cNvPr id="717" name="Picture 3" descr=""/>
          <p:cNvPicPr/>
          <p:nvPr/>
        </p:nvPicPr>
        <p:blipFill>
          <a:blip r:embed="rId1"/>
          <a:stretch/>
        </p:blipFill>
        <p:spPr>
          <a:xfrm>
            <a:off x="3564000" y="1197000"/>
            <a:ext cx="2884320" cy="2163600"/>
          </a:xfrm>
          <a:prstGeom prst="rect">
            <a:avLst/>
          </a:prstGeom>
          <a:ln w="0">
            <a:noFill/>
          </a:ln>
        </p:spPr>
      </p:pic>
      <p:pic>
        <p:nvPicPr>
          <p:cNvPr id="718" name="Picture 3" descr=""/>
          <p:cNvPicPr/>
          <p:nvPr/>
        </p:nvPicPr>
        <p:blipFill>
          <a:blip r:embed="rId2"/>
          <a:srcRect l="18934" t="9063" r="26823" b="11970"/>
          <a:stretch/>
        </p:blipFill>
        <p:spPr>
          <a:xfrm>
            <a:off x="6461280" y="2349360"/>
            <a:ext cx="2327040" cy="2405160"/>
          </a:xfrm>
          <a:prstGeom prst="rect">
            <a:avLst/>
          </a:prstGeom>
          <a:ln w="0">
            <a:noFill/>
          </a:ln>
        </p:spPr>
      </p:pic>
      <p:sp>
        <p:nvSpPr>
          <p:cNvPr id="719" name="Rounded Rectangular Callout 11"/>
          <p:cNvSpPr/>
          <p:nvPr/>
        </p:nvSpPr>
        <p:spPr>
          <a:xfrm>
            <a:off x="3419640" y="3782880"/>
            <a:ext cx="2592360" cy="1944720"/>
          </a:xfrm>
          <a:prstGeom prst="wedgeRoundRectCallout">
            <a:avLst>
              <a:gd name="adj1" fmla="val 80208"/>
              <a:gd name="adj2" fmla="val -64671"/>
              <a:gd name="adj3" fmla="val 16667"/>
            </a:avLst>
          </a:prstGeom>
          <a:solidFill>
            <a:srgbClr val="003896"/>
          </a:solidFill>
          <a:ln w="25560">
            <a:solidFill>
              <a:srgbClr val="00266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clip tends to bend with the size of the tender and during the evaluation of the tenders. Tender comes apart. 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pic>
        <p:nvPicPr>
          <p:cNvPr id="720" name="Picture 3" descr=""/>
          <p:cNvPicPr/>
          <p:nvPr/>
        </p:nvPicPr>
        <p:blipFill>
          <a:blip r:embed="rId3"/>
          <a:stretch/>
        </p:blipFill>
        <p:spPr>
          <a:xfrm>
            <a:off x="4419720" y="1197000"/>
            <a:ext cx="4081320" cy="33544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3"/>
          <p:cNvSpPr/>
          <p:nvPr/>
        </p:nvSpPr>
        <p:spPr>
          <a:xfrm>
            <a:off x="179280" y="1197000"/>
            <a:ext cx="309240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Lever Arch Files should not be used: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Pages may be removed 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896"/>
                </a:solidFill>
                <a:latin typeface="Arial"/>
              </a:rPr>
              <a:t>Tender Document is not tamper proof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le fasters pose a safety risk when handling tender documents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inding of Tender Documents …. co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DAA43-03D2-4281-A156-AE04C880CFF2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8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4" name="Slide Number Placeholder 4"/>
          <p:cNvSpPr/>
          <p:nvPr/>
        </p:nvSpPr>
        <p:spPr>
          <a:xfrm>
            <a:off x="3924360" y="6453360"/>
            <a:ext cx="9349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C1533-3472-4FA8-876C-B2DB1BD6CA6D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pic>
        <p:nvPicPr>
          <p:cNvPr id="725" name="Picture 8" descr=""/>
          <p:cNvPicPr/>
          <p:nvPr/>
        </p:nvPicPr>
        <p:blipFill>
          <a:blip r:embed="rId1"/>
          <a:stretch/>
        </p:blipFill>
        <p:spPr>
          <a:xfrm>
            <a:off x="457200" y="1793880"/>
            <a:ext cx="3095640" cy="309564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4" descr=""/>
          <p:cNvPicPr/>
          <p:nvPr/>
        </p:nvPicPr>
        <p:blipFill>
          <a:blip r:embed="rId2"/>
          <a:stretch/>
        </p:blipFill>
        <p:spPr>
          <a:xfrm>
            <a:off x="6659640" y="833400"/>
            <a:ext cx="2590560" cy="192096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2" descr=""/>
          <p:cNvPicPr/>
          <p:nvPr/>
        </p:nvPicPr>
        <p:blipFill>
          <a:blip r:embed="rId3"/>
          <a:stretch/>
        </p:blipFill>
        <p:spPr>
          <a:xfrm rot="1370400">
            <a:off x="3725640" y="2271240"/>
            <a:ext cx="5032080" cy="3005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058920" y="3271320"/>
            <a:ext cx="5545080" cy="67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896"/>
                </a:solidFill>
                <a:latin typeface="Arial"/>
              </a:rPr>
              <a:t>Thank you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9" name="Picture 56" descr=""/>
          <p:cNvPicPr/>
          <p:nvPr/>
        </p:nvPicPr>
        <p:blipFill>
          <a:blip r:embed="rId2"/>
          <a:stretch/>
        </p:blipFill>
        <p:spPr>
          <a:xfrm>
            <a:off x="5435640" y="6213600"/>
            <a:ext cx="3197160" cy="314280"/>
          </a:xfrm>
          <a:prstGeom prst="rect">
            <a:avLst/>
          </a:prstGeom>
          <a:ln w="0">
            <a:noFill/>
          </a:ln>
        </p:spPr>
      </p:pic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3058920" y="4092120"/>
            <a:ext cx="5545080" cy="22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9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83725b"/>
                </a:solidFill>
                <a:latin typeface="Arial"/>
              </a:rPr>
              <a:t>?</a:t>
            </a:r>
            <a:endParaRPr b="0" lang="en-US" sz="72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658" name=""/>
          <p:cNvGraphicFramePr/>
          <p:nvPr/>
        </p:nvGraphicFramePr>
        <p:xfrm>
          <a:off x="436680" y="1436760"/>
          <a:ext cx="8378640" cy="4998960"/>
        </p:xfrm>
        <a:graphic>
          <a:graphicData uri="http://schemas.openxmlformats.org/drawingml/2006/table">
            <a:tbl>
              <a:tblPr/>
              <a:tblGrid>
                <a:gridCol w="5648040"/>
                <a:gridCol w="27306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em</a:t>
                      </a:r>
                      <a:endParaRPr b="0" lang="en-US" sz="2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9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esenter</a:t>
                      </a:r>
                      <a:endParaRPr b="0" lang="en-US" sz="2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96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Opening and Welcome</a:t>
                      </a:r>
                      <a:endParaRPr b="0" lang="en-US" sz="2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Thabile Sibiya</a:t>
                      </a:r>
                      <a:endParaRPr b="0" lang="en-US" sz="2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Safety Awareness</a:t>
                      </a:r>
                      <a:endParaRPr b="0" lang="en-US" sz="2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Commercial</a:t>
                      </a:r>
                      <a:endParaRPr b="0" lang="en-US" sz="2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Thabile Sibiya</a:t>
                      </a:r>
                      <a:endParaRPr b="0" lang="en-US" sz="2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Technical</a:t>
                      </a:r>
                      <a:endParaRPr b="0" lang="en-US" sz="2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Shalen Goonoa</a:t>
                      </a:r>
                      <a:endParaRPr b="0" lang="en-US" sz="2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f"/>
                    </a:solidFill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Supplier Development Localisation &amp; Industrialization</a:t>
                      </a:r>
                      <a:endParaRPr b="0" lang="en-US" sz="2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Derna Edmund</a:t>
                      </a:r>
                      <a:endParaRPr b="0" lang="en-US" sz="2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Quality </a:t>
                      </a:r>
                      <a:endParaRPr b="0" lang="en-US" sz="2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Nakho Xulu</a:t>
                      </a:r>
                      <a:endParaRPr b="0" lang="en-US" sz="2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SHE</a:t>
                      </a:r>
                      <a:endParaRPr b="0" lang="en-US" sz="2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Andre Fredericks</a:t>
                      </a:r>
                      <a:endParaRPr b="0" lang="en-US" sz="2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Q&amp;A</a:t>
                      </a:r>
                      <a:endParaRPr b="0" lang="en-US" sz="2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Tenderers</a:t>
                      </a:r>
                      <a:endParaRPr b="0" lang="en-US" sz="2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Closure</a:t>
                      </a:r>
                      <a:endParaRPr b="0" lang="en-US" sz="2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</a:tr>
            </a:tbl>
          </a:graphicData>
        </a:graphic>
      </p:graphicFrame>
      <p:sp>
        <p:nvSpPr>
          <p:cNvPr id="659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32FAC-966D-42A5-A4D4-B59A264C47AE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8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0" name="Slide Number Placeholder 4"/>
          <p:cNvSpPr/>
          <p:nvPr/>
        </p:nvSpPr>
        <p:spPr>
          <a:xfrm>
            <a:off x="3924360" y="6453360"/>
            <a:ext cx="9349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564E6-51C4-420F-916B-3BE21EC5E84C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9008A-4700-4FD9-9250-9DAA369798A9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8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2" name="Slide Number Placeholder 5"/>
          <p:cNvSpPr/>
          <p:nvPr/>
        </p:nvSpPr>
        <p:spPr>
          <a:xfrm>
            <a:off x="3924360" y="6453360"/>
            <a:ext cx="9349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27994-10BD-41A1-AB51-C9BAB162C4A6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POSE OF THE CLARIFICATION MEE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Rectangle 3"/>
          <p:cNvSpPr/>
          <p:nvPr/>
        </p:nvSpPr>
        <p:spPr>
          <a:xfrm>
            <a:off x="755640" y="1413000"/>
            <a:ext cx="7488360" cy="43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 algn="just">
              <a:lnSpc>
                <a:spcPct val="90000"/>
              </a:lnSpc>
              <a:spcBef>
                <a:spcPts val="2999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96"/>
                </a:solidFill>
                <a:latin typeface="Arial"/>
              </a:rPr>
              <a:t>This is a non-compulsory clarification meeting –Tenderers who are unable to attend the meeting will be able to submit their tender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2999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96"/>
                </a:solidFill>
                <a:latin typeface="Arial"/>
              </a:rPr>
              <a:t>To assist the Tenderers on the requirements for this tender.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 algn="just">
              <a:lnSpc>
                <a:spcPct val="90000"/>
              </a:lnSpc>
              <a:spcBef>
                <a:spcPts val="2999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96"/>
                </a:solidFill>
                <a:latin typeface="Arial"/>
              </a:rPr>
              <a:t>To assist the Tenderers with compiling of the tender documents.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999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7252D-36BD-4D91-9F4C-7D811F92E690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8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6" name="Slide Number Placeholder 5"/>
          <p:cNvSpPr/>
          <p:nvPr/>
        </p:nvSpPr>
        <p:spPr>
          <a:xfrm>
            <a:off x="3924360" y="6453360"/>
            <a:ext cx="9349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6DDE-42C6-4B63-B116-8D90511F014C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cope of the Enqui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Rectangle 3"/>
          <p:cNvSpPr/>
          <p:nvPr/>
        </p:nvSpPr>
        <p:spPr>
          <a:xfrm>
            <a:off x="179280" y="1079640"/>
            <a:ext cx="864072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96"/>
                </a:solidFill>
                <a:latin typeface="Arial"/>
              </a:rPr>
              <a:t>Enquiry Number: </a:t>
            </a:r>
            <a:r>
              <a:rPr b="1" lang="en-US" sz="2400" spc="-1" strike="noStrike">
                <a:solidFill>
                  <a:srgbClr val="003896"/>
                </a:solidFill>
                <a:latin typeface="Arial"/>
              </a:rPr>
              <a:t>KZN028 – Central East Cluster – KZN/FS OU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96"/>
                </a:solidFill>
                <a:latin typeface="Arial"/>
              </a:rPr>
              <a:t>The deadline for tender submission is </a:t>
            </a:r>
            <a:r>
              <a:rPr b="1" lang="en-US" sz="2400" spc="-1" strike="noStrike" u="sng">
                <a:solidFill>
                  <a:srgbClr val="003896"/>
                </a:solidFill>
                <a:uFillTx/>
                <a:latin typeface="Arial"/>
              </a:rPr>
              <a:t>Wednesday,  10 August 2022 @ 10h00.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96"/>
                </a:solidFill>
                <a:latin typeface="Arial"/>
              </a:rPr>
              <a:t>Specific Items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graphicFrame>
        <p:nvGraphicFramePr>
          <p:cNvPr id="669" name=""/>
          <p:cNvGraphicFramePr/>
          <p:nvPr/>
        </p:nvGraphicFramePr>
        <p:xfrm>
          <a:off x="611280" y="3500280"/>
          <a:ext cx="7632720" cy="2808360"/>
        </p:xfrm>
        <a:graphic>
          <a:graphicData uri="http://schemas.openxmlformats.org/drawingml/2006/table">
            <a:tbl>
              <a:tblPr/>
              <a:tblGrid>
                <a:gridCol w="528480"/>
                <a:gridCol w="879480"/>
                <a:gridCol w="4449960"/>
                <a:gridCol w="554040"/>
                <a:gridCol w="1220760"/>
              </a:tblGrid>
              <a:tr h="473400">
                <a:tc>
                  <a:txBody>
                    <a:bodyPr lIns="68760" rIns="68760" tIns="54000" bIns="54000" anchor="t">
                      <a:noAutofit/>
                    </a:bodyPr>
                    <a:p>
                      <a:pPr>
                        <a:tabLst>
                          <a:tab algn="l" pos="0"/>
                          <a:tab algn="l" pos="22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em No</a:t>
                      </a:r>
                      <a:r>
                        <a:rPr b="1" lang="en-GB" sz="11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1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96"/>
                    </a:solidFill>
                  </a:tcPr>
                </a:tc>
                <a:tc>
                  <a:txBody>
                    <a:bodyPr lIns="68760" rIns="68760" tIns="54000" bIns="54000" anchor="t">
                      <a:noAutofit/>
                    </a:bodyPr>
                    <a:p>
                      <a:pPr>
                        <a:tabLst>
                          <a:tab algn="l" pos="0"/>
                          <a:tab algn="l" pos="22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P NO.</a:t>
                      </a:r>
                      <a:endParaRPr b="0" lang="en-US" sz="12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96"/>
                    </a:solidFill>
                  </a:tcPr>
                </a:tc>
                <a:tc>
                  <a:txBody>
                    <a:bodyPr lIns="68760" rIns="68760" tIns="54000" bIns="54000" anchor="t">
                      <a:noAutofit/>
                    </a:bodyPr>
                    <a:p>
                      <a:pPr>
                        <a:tabLst>
                          <a:tab algn="l" pos="0"/>
                          <a:tab algn="l" pos="22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scription</a:t>
                      </a:r>
                      <a:endParaRPr b="0" lang="en-US" sz="12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96"/>
                    </a:solidFill>
                  </a:tcPr>
                </a:tc>
                <a:tc>
                  <a:txBody>
                    <a:bodyPr lIns="68760" rIns="68760" tIns="54000" bIns="54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IT</a:t>
                      </a:r>
                      <a:endParaRPr b="0" lang="en-US" sz="12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96"/>
                    </a:solidFill>
                  </a:tcPr>
                </a:tc>
                <a:tc>
                  <a:txBody>
                    <a:bodyPr lIns="68760" rIns="68760" tIns="54000" bIns="54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stimated Quantities</a:t>
                      </a:r>
                      <a:endParaRPr b="0" lang="en-US" sz="12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003896"/>
                    </a:solidFill>
                  </a:tcPr>
                </a:tc>
              </a:tr>
              <a:tr h="426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536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89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245949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22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BOX, POLE TOP SMART SPLIT METER, 2-WAY, 20A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22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EA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536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77800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</a:tr>
              <a:tr h="426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89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670228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22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BOX, POLE TOP SMART SPLIT METER, 2-WAY, 60A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22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EA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3700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f"/>
                    </a:solidFill>
                  </a:tcPr>
                </a:tc>
              </a:tr>
              <a:tr h="426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89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229922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22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BOX, POLE TOP SMART SPLIT METER, 4-WAY, 20A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22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EA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56800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</a:tr>
              <a:tr h="426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89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245950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22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BOX, POLE TOP SMART SPLIT METER, 4-WAY, 60A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22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EA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8700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f"/>
                    </a:solidFill>
                  </a:tcPr>
                </a:tc>
              </a:tr>
              <a:tr h="426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89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670312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22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BOX, POLE TOP SMART SPLIT METER, 6-WAY, 20A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22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EA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10200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</a:tr>
              <a:tr h="426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89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670315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f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22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BOX, POLE TOP SMART SPLIT METER, 6-WAY, 60A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22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EA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3700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e8ef"/>
                    </a:solidFill>
                  </a:tcPr>
                </a:tc>
              </a:tr>
              <a:tr h="4266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3896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22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229921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tabLst>
                          <a:tab algn="l" pos="0"/>
                          <a:tab algn="l" pos="22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BOX, POLE TOP SMART SPLIT METER, 8-WAY, 20A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22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EA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2253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3896"/>
                          </a:solidFill>
                          <a:latin typeface="Arial"/>
                        </a:rPr>
                        <a:t>1500</a:t>
                      </a:r>
                      <a:endParaRPr b="0" lang="en-US" sz="14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edd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VITATION TO TENDE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 txBox="1"/>
          <p:nvPr/>
        </p:nvSpPr>
        <p:spPr>
          <a:xfrm>
            <a:off x="436680" y="1052280"/>
            <a:ext cx="83786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e original and copy of the tender shall be addressed to Eskom and marked as follows: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9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896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3896"/>
                </a:solidFill>
                <a:latin typeface="Arial"/>
              </a:rPr>
              <a:t>Confidential’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9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896"/>
                </a:solidFill>
                <a:latin typeface="Arial"/>
              </a:rPr>
              <a:t>Original / Copy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Enquiry Number: </a:t>
            </a:r>
            <a:r>
              <a:rPr b="1" lang="en-US" sz="2000" spc="-1" strike="noStrike">
                <a:solidFill>
                  <a:srgbClr val="003896"/>
                </a:solidFill>
                <a:latin typeface="Arial"/>
              </a:rPr>
              <a:t>KZN028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Description of goods: </a:t>
            </a:r>
            <a:r>
              <a:rPr b="1" lang="en-US" sz="2000" spc="-1" strike="noStrike">
                <a:solidFill>
                  <a:srgbClr val="003896"/>
                </a:solidFill>
                <a:latin typeface="Arial"/>
              </a:rPr>
              <a:t>POLE TOP BOXES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osing Date: </a:t>
            </a:r>
            <a:r>
              <a:rPr b="1" lang="en-US" sz="2000" spc="-1" strike="noStrike">
                <a:solidFill>
                  <a:srgbClr val="003896"/>
                </a:solidFill>
                <a:latin typeface="Arial"/>
              </a:rPr>
              <a:t>10 AUGUST 2022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96"/>
                </a:solidFill>
                <a:latin typeface="Arial"/>
              </a:rPr>
              <a:t>Tender to be compiled and submitted in the following format</a:t>
            </a: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:                                                                                  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896"/>
                </a:solidFill>
                <a:latin typeface="Arial"/>
              </a:rPr>
              <a:t>Section 1: Commercial Requirements/Financial Requirements (1 original &amp; 1 copy)</a:t>
            </a:r>
            <a:endParaRPr b="0" lang="en-US" sz="2300" spc="-1" strike="noStrike">
              <a:solidFill>
                <a:srgbClr val="00389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896"/>
                </a:solidFill>
                <a:latin typeface="Arial"/>
              </a:rPr>
              <a:t>Section 2: Technical Requirements (1 original &amp; 1 copy)</a:t>
            </a:r>
            <a:endParaRPr b="0" lang="en-US" sz="2300" spc="-1" strike="noStrike">
              <a:solidFill>
                <a:srgbClr val="00389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896"/>
                </a:solidFill>
                <a:latin typeface="Arial"/>
              </a:rPr>
              <a:t>Section 3: SHE Requirements (1 original &amp; 1 copy)</a:t>
            </a:r>
            <a:endParaRPr b="0" lang="en-US" sz="2300" spc="-1" strike="noStrike">
              <a:solidFill>
                <a:srgbClr val="003896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896"/>
                </a:solidFill>
                <a:latin typeface="Arial"/>
              </a:rPr>
              <a:t>Section 4: Quality Requirements (1 original &amp; 1 copy)</a:t>
            </a:r>
            <a:endParaRPr b="0" lang="en-US" sz="23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896"/>
                </a:solidFill>
                <a:latin typeface="Arial"/>
              </a:rPr>
              <a:t>Section 5: Supplier Development Localisation &amp; Industrialization (SDL &amp; I) (1 original &amp; 1 copy)</a:t>
            </a:r>
            <a:endParaRPr b="0" lang="en-US" sz="23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2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7073C-855F-4DB2-9CD2-5B1ADEEE1384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8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3" name="Slide Number Placeholder 4"/>
          <p:cNvSpPr/>
          <p:nvPr/>
        </p:nvSpPr>
        <p:spPr>
          <a:xfrm>
            <a:off x="3924360" y="6453360"/>
            <a:ext cx="9349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450FF-337D-44AB-B6A3-6A965D887697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 txBox="1"/>
          <p:nvPr/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100000"/>
              </a:lnSpc>
              <a:spcBef>
                <a:spcPts val="1199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Loaded on the Eskom and National Treasury Tender portals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e place for delivery of the tender is Eskom Holdings Limited Tender Box located at: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896"/>
                </a:solidFill>
                <a:latin typeface="Arial"/>
              </a:rPr>
              <a:t>Tender Office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896"/>
                </a:solidFill>
                <a:latin typeface="Arial"/>
              </a:rPr>
              <a:t>Commercial Building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9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896"/>
                </a:solidFill>
                <a:latin typeface="Arial"/>
              </a:rPr>
              <a:t>25 Valley View Road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96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3896"/>
                </a:solidFill>
                <a:latin typeface="Arial"/>
              </a:rPr>
              <a:t>New Germany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6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1EC61-F0EE-4F06-8956-30C5B959D7C6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8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7" name="Slide Number Placeholder 4"/>
          <p:cNvSpPr/>
          <p:nvPr/>
        </p:nvSpPr>
        <p:spPr>
          <a:xfrm>
            <a:off x="3924360" y="6453360"/>
            <a:ext cx="9349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1DC58-985C-4181-BB88-0DAE48F21403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INVITATION TO TEND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 txBox="1"/>
          <p:nvPr/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 algn="just">
              <a:lnSpc>
                <a:spcPct val="90000"/>
              </a:lnSpc>
              <a:spcBef>
                <a:spcPts val="2999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96"/>
                </a:solidFill>
                <a:latin typeface="Arial"/>
              </a:rPr>
              <a:t>The closing time for clarification of queries is 5 days before the deadline for tender submission.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999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96"/>
                </a:solidFill>
                <a:latin typeface="Arial"/>
              </a:rPr>
              <a:t>To be submitted in writing to the buyer (sibiyath@eskom.co.za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999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96"/>
                </a:solidFill>
                <a:latin typeface="Arial"/>
              </a:rPr>
              <a:t>Pre-qualification criteria are not applicable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999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96"/>
                </a:solidFill>
                <a:latin typeface="Arial"/>
              </a:rPr>
              <a:t>Designated material thresholds is not applicable</a:t>
            </a:r>
            <a:r>
              <a:rPr b="1" lang="en-US" sz="2400" spc="-1" strike="noStrike">
                <a:solidFill>
                  <a:srgbClr val="00389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999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96"/>
                </a:solidFill>
                <a:latin typeface="Arial"/>
              </a:rPr>
              <a:t>The conditions of contract will be the </a:t>
            </a:r>
            <a:r>
              <a:rPr b="1" lang="en-US" sz="2400" spc="-1" strike="noStrike">
                <a:solidFill>
                  <a:srgbClr val="003896"/>
                </a:solidFill>
                <a:latin typeface="Arial"/>
              </a:rPr>
              <a:t>NEC 3 Supply Contract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999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0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FEE25-23B6-415D-BE8A-69DB08BAA111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8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1" name="Slide Number Placeholder 4"/>
          <p:cNvSpPr/>
          <p:nvPr/>
        </p:nvSpPr>
        <p:spPr>
          <a:xfrm>
            <a:off x="3924360" y="6453360"/>
            <a:ext cx="9349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D236-12FA-433A-B07A-6CCD212249CD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ENDER EVALU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 txBox="1"/>
          <p:nvPr/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 algn="just">
              <a:lnSpc>
                <a:spcPct val="150000"/>
              </a:lnSpc>
              <a:spcBef>
                <a:spcPts val="2999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96"/>
                </a:solidFill>
                <a:latin typeface="Arial"/>
              </a:rPr>
              <a:t>The evaluation of tenders will be done by the cross functional team consisting of commercial / financial, Technical, SHE, Environmental and SD&amp;L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150000"/>
              </a:lnSpc>
              <a:spcBef>
                <a:spcPts val="60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96"/>
                </a:solidFill>
                <a:latin typeface="Arial"/>
              </a:rPr>
              <a:t>The tender validity period is 120 days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150000"/>
              </a:lnSpc>
              <a:spcBef>
                <a:spcPts val="60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96"/>
                </a:solidFill>
                <a:latin typeface="Arial"/>
              </a:rPr>
              <a:t>Reverse e-auction will be applicable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150000"/>
              </a:lnSpc>
              <a:spcBef>
                <a:spcPts val="60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896"/>
                </a:solidFill>
                <a:latin typeface="Arial"/>
              </a:rPr>
              <a:t>Feedback of success/non success communicated at the end of the process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4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735B-77B3-4B01-A9AC-8C6E0FDCFB19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8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5" name="Slide Number Placeholder 4"/>
          <p:cNvSpPr/>
          <p:nvPr/>
        </p:nvSpPr>
        <p:spPr>
          <a:xfrm>
            <a:off x="3924360" y="6453360"/>
            <a:ext cx="9349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9529-B7B9-4D92-AA1C-7A03B8F3FA62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ENDER 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 txBox="1"/>
          <p:nvPr/>
        </p:nvSpPr>
        <p:spPr>
          <a:xfrm>
            <a:off x="436680" y="1268280"/>
            <a:ext cx="8378640" cy="521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3896"/>
                </a:solidFill>
                <a:uFillTx/>
                <a:latin typeface="Arial"/>
              </a:rPr>
              <a:t>Basic Compliance – Pg 7 of the ITT</a:t>
            </a:r>
            <a:endParaRPr b="0" lang="en-US" sz="2800" spc="-1" strike="noStrike">
              <a:solidFill>
                <a:srgbClr val="003896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o determine responsive and non-responsive tenders, the tenderers are required to submit all documents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Meet the eligibility criteria for a tenderer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ubmit one (1) hard copy of the original tender to Eskom plus one (1) copy of the original tender at tender submission deadline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entral Supplier Database (CSD) number (MAA………)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ubmission of the mandatory commercial tender returnables as at stipulated deadlines. (</a:t>
            </a:r>
            <a:r>
              <a:rPr b="1" lang="en-US" sz="1800" spc="-1" strike="noStrike">
                <a:solidFill>
                  <a:srgbClr val="003896"/>
                </a:solidFill>
                <a:latin typeface="Arial"/>
              </a:rPr>
              <a:t>1.3 TENDER RETURNABLES – Pg 11)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96"/>
                </a:solidFill>
                <a:latin typeface="Arial"/>
              </a:rPr>
              <a:t>Non submission of the mandatory documents/information by the tender deadline, the Tenderer will be deemed non-responsive and will not be evaluated further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8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05F06-FBBA-431B-91C2-D582E0C46895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8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9" name="Slide Number Placeholder 4"/>
          <p:cNvSpPr/>
          <p:nvPr/>
        </p:nvSpPr>
        <p:spPr>
          <a:xfrm>
            <a:off x="3924360" y="6453360"/>
            <a:ext cx="93492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9F2FA-A4C3-4D58-BA35-D78F914A95B0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8:15:51Z</dcterms:created>
  <dc:creator>TCH bonisa</dc:creator>
  <dc:description/>
  <dc:language>en-US</dc:language>
  <cp:lastModifiedBy>Thabile Sibiya</cp:lastModifiedBy>
  <cp:lastPrinted>2015-01-30T08:09:19Z</cp:lastPrinted>
  <dcterms:modified xsi:type="dcterms:W3CDTF">2022-07-20T14:08:40Z</dcterms:modified>
  <cp:revision>43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Owner">
    <vt:lpwstr>47</vt:lpwstr>
  </property>
  <property fmtid="{D5CDD505-2E9C-101B-9397-08002B2CF9AE}" pid="3" name="display_urn:schemas-microsoft-com:office:office#Owner">
    <vt:lpwstr>Vic Pretorius</vt:lpwstr>
  </property>
</Properties>
</file>